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F7A-836D-4685-ADE0-762EDAA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28F-3E8B-4D67-8D78-56E167F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E560F-A777-452A-9C64-2DE5C71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F6915-566A-4B49-98DF-04A5E8D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F2D49-80D6-4596-8E96-6AE658C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52A98-EE65-4173-A2F0-BEABD488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5FE44-787A-4B6B-AB40-6906462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3DDBD-80F8-481F-B5DA-54784AC3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4D507-0BE2-4D35-8432-C644BCB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200F8-2E58-43FC-8523-BE5B5999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E8FF-DAEC-47E2-BDCC-4E6EEEC7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4D6EA-FDEC-41DF-B877-0FC87034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B0E-3E88-40DC-AC32-AE718270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2160A-C4E3-4722-8681-074A5DA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07A25-AAEC-4ED8-9B1E-499A19AF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36113-8A0B-49D0-96EA-239659B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14EF9-024F-4527-801C-292140C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5DEC8-915E-4220-BA5E-CC8BB784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03333-7758-415C-AF33-CD437659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19011-CBF0-4A9D-BB9D-37D7A6A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CF32F-0CAE-45A5-AB26-C27EC58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8D268-B255-475D-8FE0-EBBF297B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72008-44E4-473C-9416-FB4787E0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06F-FB75-4F79-BF4D-AFAFF8FE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95AF3-D5F9-4BD4-84D0-60C37243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CADBD-2732-4A86-8B4A-5BA4D834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3052-AEE7-412F-BD53-FDB991B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8966-EFBE-44E1-A1C8-6AE2128A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0B395-22F0-4E9D-AA87-04A5A7D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51CFE-1B94-4737-A9B2-0C8C2E57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A407E-4D76-46D4-9081-C33427DF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A3A66-E923-4536-A777-7EEF9BE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475AD-2744-430E-A0A6-9731B28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EA709-B002-4F0D-8E93-34F4863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F04D-F100-4707-9201-66FBA561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5993C-0871-4ED5-9A8E-17BBA54F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8B282-FC1B-4CEB-A3B9-5876E596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D3CCE-B726-45FF-BF00-79B61456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2E66-5F7C-4575-AF58-9B8AFD68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C974E-347F-4E9F-83C4-8A2A4DF4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4F397-8A45-40C6-9D20-C2DE59A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A34EE-389C-441A-B047-C5A8677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28F9C-B15D-4767-B0EA-6B005AD2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2EC8E-89A9-4985-BF85-322DA9BA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9190B-8D78-41E3-BB97-2D064668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CE6-86BF-46A4-9362-FB731730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83A1C-95A3-4FDD-B514-F09672E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22328-DB70-4DE1-95B0-C062B65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A5B09-AF4D-45AF-8EFD-9EF5B312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DFED-6198-4151-95BF-AF268821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3432B-CB3B-4A5E-9D2F-591F5475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CDB4C-AF65-41E7-9059-DCE1EC69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51B60-83A9-4F56-B829-AF759CD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D9FE9-1ABA-4C53-90D4-97C92B2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1359C-6D0F-479D-8782-D1EE4CF3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2C90E-AA32-4982-9BFC-41E84A17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90EE-7D65-4EC2-871C-7593E573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5B989-BCF2-4D18-B1D6-98B7F6F0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FBEC5-6849-4422-969D-C28FFCA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45E5D-AE2F-4303-AD20-1B932990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98250-3CA5-4CF7-B246-A4D2FC41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4CD0E-C65B-4664-AF9C-66EC4761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FD056-95FB-46B2-A672-46DC3B26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38609-7634-4038-91C5-434027C9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896-2507-4AE1-9DB8-96ED7C24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3B26-C09E-4F7E-8BBC-1AB9D79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AF9C-6056-4E0A-9B9F-7A18065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97A-CD8A-4D9C-AB33-EED1339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DF1-1CCB-455F-AD73-77C57619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57BF-4873-473D-BD8B-FDAEE150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AA47-69CE-4894-8033-73FF7CC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21B-44C6-4DC7-B185-0D346422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55F-36E8-45A0-9615-2BC38502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424-4AC7-4095-816D-3355C1FE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0F66-2072-4B40-A9E1-BBCDB3A3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F58C-D90E-46B7-AA57-71081BFB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7DC3-1034-460C-865F-28D1349E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8802B-3A81-4ABF-A98A-1CD86AC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6067-529A-4A33-8B9C-AE269745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783-5EE1-4E90-BD2F-0626C6A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117D-FF1E-4203-9977-59C96D96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48E7-2D48-4728-BC3B-14D36DC2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3604-A4CB-4ED5-B276-B137674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64C2-A08A-4323-9F73-0A4BD27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AF74-D5E9-4805-8065-BA8D388E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2C3E-C30C-4338-8E41-0D647591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D81B-D725-4111-BB90-5E2D8A81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D260-7894-45EB-A94D-BB39A118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BF4FD-960F-4316-B235-45B28E64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4909-DA82-461E-9FBE-3A11C8B2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925-5CEC-4EC6-89B4-71516AD5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F286-AECE-4EF9-B731-1F4183BB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0256A-3240-4830-B398-AD4C363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0091-A9C7-4D17-8C4B-0F8B680A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9095-BCDF-42C9-816C-7EB65DF9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5668-AE85-40A2-833B-75837B4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33D89-BC9C-4B1E-BD98-75A2BBB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465E-BB35-4911-AAEF-68719F2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15DF-94CF-49F1-A4A3-A9AF822C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1707-A2C6-4190-A4BE-A7FF5FC0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2F6A0-0343-4ABF-99D9-43EDAFF6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844-C53D-4E56-9696-4FD2DECA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3C0B-B825-41EF-BB94-BFA8083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4025-216B-4C79-B1EB-E1F4E79F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F66A-650B-46C6-9F99-DA589049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73CF5-547C-4009-89FE-428E9039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C4F88-C263-42FF-B653-E973D171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91202-9927-463C-8FF7-1C74596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3FD0-F066-416B-88E9-766A229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51A4-159C-4CC0-A497-AF65097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3159-F8EC-40A8-A7C5-331995C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C3CD0-0BC7-4C71-B9F9-8E5CF741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3A8-5095-47DC-AB80-827A10E1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AFB5-B1FF-47BD-BB2F-F3B2E61D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F5FF-26BE-4174-BB2D-0CA0DC4E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032BB-1FE0-4DD1-8DDE-DCD14F2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B91C-0E9A-4BFF-AB1C-147939DE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7706-F560-47B7-A8EA-10CD52D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6C86-BB25-4596-84C7-67DE364F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65D76-F39D-40ED-B5B1-B4FAD95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4CED-B4A9-43E6-A3D8-444F3070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491B2-B27D-4E14-A253-30C73A3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263A5-6C6A-48C7-9153-A937007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00D-3544-4150-8DE7-D6FF683D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A0FD-C42B-49B4-A531-8C3F47CD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24FAF-229F-4D22-9265-6AE15315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C4499-F4A0-4F7B-836D-582D4109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9207-8B0B-4E9A-9980-08CFF425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08BA-C887-4FF2-8BA6-3B3A055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14C8-1F27-4835-A2EF-21DAA7A8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C4D3C-D691-4B06-BEA8-9F69EA97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6E1A0-F5EE-49A0-AD72-7CACDA9C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9BC4-2D84-4E60-A0C7-9D058D8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0933-FDEE-4784-BED2-540B496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5B1-93F1-48FC-A010-CB7AD0B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E2F08-39E9-494D-A4CB-F48E8F60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B2F9A-737D-4917-9E68-B29F556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FD93-652C-41FA-8F53-DAF84F9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985EB-9004-4DE2-BBF3-607A97E3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AABBC-CCC4-4D3B-BE77-C98B0090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C5136-49F3-4699-B570-68AAB6AF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A0D3-A200-4486-BD8D-518A3974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765C3-EF0D-44CC-A861-86D99392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E253-3A0B-4454-A107-B32C178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2738F-D8A8-49DB-8AC7-FEB9427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504-8BE4-480F-B0C9-E36B1E8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CF86-13E8-41D1-8DAF-674DBE96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2F2D-A823-49C5-B5D9-3EB9A38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AE21-341B-4E36-8C04-090B5521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D7E4B-3BB2-4508-8870-591BAD1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7080-D433-494F-B843-FB17C4A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274A-B910-425E-9DDA-8061C379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401F5-E7D5-4943-A33D-F7FB25A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36DB2-C556-48EC-9B54-E791C2B7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CE26F-7155-481C-BEF3-8407A588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7E46-0A9B-472F-A465-8A5299A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C63-3120-4AC6-991B-9874A5537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3741-0E02-4698-8BEA-E653E964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C91-E018-4475-9E3C-6EDBA79D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A5A4-6EF0-4B1D-9DDC-69EF20FE9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F0E0-CAAA-4804-88E5-21D6ED57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3C3E-E25C-47D7-B7C2-1BFB2CC0F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DA1-DFDD-4BBA-A97F-8ABD7CF9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CD82-1F15-4747-AD84-907D2A780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15D2-D7B0-48AF-8941-072A9FDB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E8C-3D93-44CA-BBC8-BC681FA9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30FD-A266-4935-8E34-8D24F1590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8F5-3B11-4092-B2A3-1E246373B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5B84-2C43-4C99-956F-5A264358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5265682460538115300&amp;pos=177&amp;num=36&amp;q=&#36807;&#21435;&#24310;&#23433;&#22270;&#29255;&amp;fm=QH36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dd257e0c212d5b52acb7c6190b53ce40946b85c4853ca57faab0537800226bf7f6d40d8228070a685925234c2f3d347d562355a0d5c31d3b47fa862a0ab86e310bc08953&amp;a=29&amp;b=1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684211577223914562&amp;pos=78&amp;num=36&amp;q=&#24310;&#23433;&#31377;&#27934;&#22270;&#29255;&amp;fm=QH36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2892719140794876867&amp;pos=39&amp;num=36&amp;q=&#24310;&#23433;&#23453;&#22612;&#23665;&amp;fm=seso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get?name=T178_sBsVj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940360" y="-747720"/>
            <a:ext cx="17281440" cy="8037360"/>
          </a:xfrm>
          <a:prstGeom prst="rect">
            <a:avLst/>
          </a:prstGeom>
          <a:ln w="0">
            <a:noFill/>
          </a:ln>
        </p:spPr>
      </p:pic>
      <p:sp>
        <p:nvSpPr>
          <p:cNvPr id="536" name="WordArt 14"/>
          <p:cNvSpPr txBox="1"/>
          <p:nvPr/>
        </p:nvSpPr>
        <p:spPr>
          <a:xfrm>
            <a:off x="2195640" y="1413000"/>
            <a:ext cx="626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延安，我把你追寻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6156360" y="43704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18"/>
          <p:cNvSpPr txBox="1"/>
          <p:nvPr/>
        </p:nvSpPr>
        <p:spPr>
          <a:xfrm>
            <a:off x="3419640" y="5300640"/>
            <a:ext cx="43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城关二小 邹桂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煌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翔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想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重点符号画出诗的韵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押的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韵，没节诗二四句末尾的一个字都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韵脚是：光、阳、看、场、琅、炕、咱、梁、煌、翔、想、光、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宝塔山2"/>
          <p:cNvPicPr/>
          <p:nvPr/>
        </p:nvPicPr>
        <p:blipFill>
          <a:blip r:embed="rId1"/>
          <a:stretch/>
        </p:blipFill>
        <p:spPr>
          <a:xfrm>
            <a:off x="0" y="0"/>
            <a:ext cx="600228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WordArt 5"/>
          <p:cNvSpPr txBox="1"/>
          <p:nvPr/>
        </p:nvSpPr>
        <p:spPr>
          <a:xfrm rot="5400000">
            <a:off x="5562360" y="228564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宝塔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革命战争年代，中共中央曾在延安领导了中国革命，毛泽东等领袖们在这里为中国革命制定了正确的路线、方针、政策。中国共产党及其领导者，好像灯塔一样，给中国革命指明了方向。因此，宝塔山上的宝塔就成了革命圣地延安的象征。经常出现在文人和画家的笔下。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4" descr="南泥湾开荒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5791320" y="623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南泥湾开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泥湾历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南泥湾是位于延安城东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公里处的一条狭窄溪谷，此地野兽出没，杳无人烟。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4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春，由于当时国民党反动派对陕甘宁边区及抗日根据地实行经济封锁，所以，中共中央命令八路军三五九旅进驻南泥湾，实行屯垦，生产自救。没有房，自己动手挖窑洞；没有菜，挖野菜吃；没有工具，就自制锄、铲，短短的三年，由王震旅长率领的三五九旅发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自力更生，艰苦奋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革命精神，把荆棘遍野、荒无人烟的南泥湾变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处处是庄稼，遍地是牛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陕北好江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王家坪革命旧址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0" y="57913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王家坪革命旧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王家坪位于延安城西北方向，隔延河与城相望，旧址处于两座大山脚下，左边叫脑畔山，右边叫花豹山，一条小沟从林中穿过，依山傍水，环境优美。这里曾是中国人民革命军事委员会和国民革命军第八路军（后改为中国人民解放军总司令部）总部所在地。王家坪革命旧址分为南北两院，人们一般称南院为政治部，北院为司令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延安，一座北国边塞之城，一方热烈而又神秘的土地。延安，一幅壮丽的历史画卷，一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92360" y="0"/>
            <a:ext cx="1144908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111600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248436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63640" y="22446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052720" y="-647640"/>
            <a:ext cx="14328720" cy="75056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"/>
          <p:cNvSpPr/>
          <p:nvPr/>
        </p:nvSpPr>
        <p:spPr>
          <a:xfrm>
            <a:off x="2627280" y="1700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1116000" y="1833120"/>
            <a:ext cx="691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延安，一座北国边塞之城，一方热烈而又神秘的土地。延安，一幅壮丽的历史画卷，一部光照史册，启迪后人的经典。               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到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948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的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间，那场翻天覆地，激荡山河的革命浪潮曾经从这里席卷全国，延安，也因此被称为革命圣地。王家坪、杨家岭、枣园、南泥湾，这里革命的足迹历历在目，看着这一切，诗人满怀激情地写下了这样的诗句：“延安，我把你追寻”，诗人在追寻什么呢？今天，我们就来学习这篇课文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延安，我把你追寻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。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5" descr="杨家岭革命旧址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7"/>
          <p:cNvSpPr/>
          <p:nvPr/>
        </p:nvSpPr>
        <p:spPr>
          <a:xfrm>
            <a:off x="5105520" y="228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杨家岭革命旧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杨家岭位于延安城西北约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公里处，原是一处只有十几户人家的小山村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93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至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94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，中共中央及主要领导在这里居住。在此期间，领导解放区军民展开了轰轰烈烈的大生产运动；领导全党展开了伟大的整风运动；召开了具有伟大历史意义的第七次全国党代会；著名的延安文艺座谈会也是在这里召开的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961560" cy="6811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6"/>
          <p:cNvSpPr/>
          <p:nvPr/>
        </p:nvSpPr>
        <p:spPr>
          <a:xfrm>
            <a:off x="719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河、枣园、南泥湾、杨家岭是延安最具有代表性的地方。延河是黄河的一条支流，它流经延安。当年人们常在延河边上漫步，讨论革命的道理。枣园在延安西北，距市中心约七公里，曾是党中央所在地，毛主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人民服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著作就是在这里写的。南泥湾在延安南部。当年八路军在这里垦荒种粮，开展大生产运动。著名的歌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泥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词中写道：“南泥湾是个好地方，到处是庄稼，遍地是牛羊。当年的南泥湾，到处呀是荒山，没呀人烟。如今的南泥湾，与往年不一般，再不是旧模样，是陕北的好江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5" descr="get?name=T1v00yBvEX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12720" y="-458640"/>
            <a:ext cx="11952360" cy="71006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324000" y="4932360"/>
            <a:ext cx="734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永远告别了破旧的茅屋，却忘不了延安窑洞温热的土炕。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13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毫不犹豫地丢掉了老牛破车，却不能丢宝塔山顶天立地的脊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2050920" y="2133720"/>
            <a:ext cx="45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900000" y="27064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毫不犹豫地丢掉了老牛破车，却不能丢宝塔山顶天立地的脊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get?name=T1d2LwBXJ4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10801440" cy="73389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7432560" y="148104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我们毫不犹豫丢掉了老牛破车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却不能丢宝塔山顶天立地的脊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图片"/>
          <p:cNvPicPr/>
          <p:nvPr/>
        </p:nvPicPr>
        <p:blipFill>
          <a:blip r:embed="rId1"/>
          <a:stretch/>
        </p:blipFill>
        <p:spPr>
          <a:xfrm>
            <a:off x="-612720" y="0"/>
            <a:ext cx="1015344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7"/>
          <p:cNvSpPr/>
          <p:nvPr/>
        </p:nvSpPr>
        <p:spPr>
          <a:xfrm>
            <a:off x="2771640" y="2492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332000" y="13478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！延安，我把你追寻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信念，追寻金色的理想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温暖，追寻明媚的春光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光明，追寻火红的太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-1810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图片"/>
          <p:cNvPicPr/>
          <p:nvPr/>
        </p:nvPicPr>
        <p:blipFill>
          <a:blip r:embed="rId1"/>
          <a:stretch/>
        </p:blipFill>
        <p:spPr>
          <a:xfrm>
            <a:off x="-181080" y="-1971720"/>
            <a:ext cx="17499240" cy="9333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6"/>
          <p:cNvSpPr/>
          <p:nvPr/>
        </p:nvSpPr>
        <p:spPr>
          <a:xfrm>
            <a:off x="-324000" y="54936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116000" y="476280"/>
            <a:ext cx="100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延安精神，就是全心全意为人民服务的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延安精神，就是自力更生，艰苦奋斗、不断开拓创新的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延安精神，就是解放思想，实事求是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延安精神，就是为崇高理想而献身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即使将来我们经济发达了，生活富裕了，我们绝不能丢下延安精神，因为无论什么时候，人们总要征服自然，改造自然。为了把社会推向前进，这就必须发扬延安精神。延安精神是中国共产党的传家宝，是中华民族宝贵的精神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图片"/>
          <p:cNvPicPr/>
          <p:nvPr/>
        </p:nvPicPr>
        <p:blipFill>
          <a:blip r:embed="rId1"/>
          <a:stretch/>
        </p:blipFill>
        <p:spPr>
          <a:xfrm>
            <a:off x="-1116000" y="0"/>
            <a:ext cx="10369440" cy="8082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971640" y="2421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小练笔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联系自己的生活、学习实际，谈一谈怎样把延安精神发扬光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阳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场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煌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翔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想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重点符号画出诗的韵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阳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场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3:00:17Z</dcterms:created>
  <dc:creator>微软用户</dc:creator>
  <dc:description/>
  <dc:language>en-US</dc:language>
  <cp:lastModifiedBy>Sky123.Org</cp:lastModifiedBy>
  <dcterms:modified xsi:type="dcterms:W3CDTF">2014-12-18T01:21:05Z</dcterms:modified>
  <cp:revision>67</cp:revision>
  <dc:subject/>
  <dc:title>幻灯片 1</dc:title>
</cp:coreProperties>
</file>